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0.wmf" ContentType="image/x-wmf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5.png" ContentType="image/png"/>
  <Override PartName="/ppt/media/image2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0C2-EE9F-46D5-845F-AC7F643C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6530-55B6-4F55-92D9-60938A1E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0A5D-0F98-46B7-AFB7-7D0D3DF4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A85B-636C-42A4-9948-9F429259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2824-D342-4A56-AE8B-F44156E5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B345-0BC7-4BBC-8CC3-9D867B58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4F6-FF58-4E39-9F28-DC08E55D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CBED-6594-40E4-A8C9-33316900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F32C-EB99-4498-B6FF-9304D0C4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150C-8C9D-4652-89B0-C9446366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D765-0B02-41F9-A220-1C98E7E0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F3B-280F-49D8-8116-E54E3853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C48D-1F90-404A-BD9C-CD82E25C6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qoob.tv/video/clip_view.asp?id=409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video" Target="file:///tmp/home/.config/libreoffice/4/user/gallery/Scientist" TargetMode="External"/><Relationship Id="rId4" Type="http://schemas.microsoft.com/office/2007/relationships/media" Target="file:///tmp/home/.config/libreoffice/4/user/gallery/Scientist" TargetMode="External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514600" y="1676520"/>
            <a:ext cx="3886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arthquakes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38280" y="3886200"/>
            <a:ext cx="414360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ordanna Kalkhof &amp; Ebony Johnson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ANTICLINE / SYNCLINE"/>
          <p:cNvPicPr/>
          <p:nvPr/>
        </p:nvPicPr>
        <p:blipFill>
          <a:blip r:embed="rId1"/>
          <a:stretch/>
        </p:blipFill>
        <p:spPr>
          <a:xfrm>
            <a:off x="380880" y="228600"/>
            <a:ext cx="7905960" cy="3333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380880" y="3733920"/>
            <a:ext cx="3886200" cy="2819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n in the diagram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tic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when there is a fold in r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ds upward like an 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3733920"/>
            <a:ext cx="3886200" cy="2819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seen in the diagram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ync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when there is a fold in roc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binds downward to for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l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6095880" cy="3504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362320" y="4191120"/>
            <a:ext cx="6019560" cy="1981080"/>
          </a:xfrm>
          <a:prstGeom prst="rect">
            <a:avLst/>
          </a:prstGeom>
          <a:solidFill>
            <a:srgbClr val="ff99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eaus are large areas of land elevated h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ve sea-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676520" y="1294920"/>
            <a:ext cx="1600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2514600"/>
            <a:ext cx="144792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8080" y="304920"/>
            <a:ext cx="7315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thquakes Are Dangero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743200"/>
            <a:ext cx="769608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hould know what to do if an Earthquake e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ppens so watch this video to see what to do in a funny w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static.howstuffworks.com/gif/12-of-the-most-destructive-earthquake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www.msnucleus.org/membership/html/k-6/pt/plate/5/images/transform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pubs.usgs.gov/gip/earthq1/san_andreas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www.students.j.csbsju.edu/jmmonroe/images/foldedchert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www.brantacan.co.uk/ShearA2Small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www.see.leeds.ac.uk/structure/faults/normal/normalicon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cejones/GeoImages/7Structures/NormalFaults/MosaicCanyonNormalFaultSm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images.google.com/imgres?imgurl=http://www2.nature.nps.gov/Geology/usgsnps/deform/reversefault.gif&amp;imgrefurl=http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cejones/GeoImages/7Structures/NormalFaults/NormalFaultMexicoSml.jp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http://www.hickerphoto.com/data/media/175/colorado_plateau_t3105.jp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Clip 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1870200" cy="2681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00200" y="1143000"/>
            <a:ext cx="4267080" cy="19051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force that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ape or volum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3200400" cy="1828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876920" y="5105520"/>
            <a:ext cx="40384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stress between the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es of the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335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0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6880" y="5257800"/>
            <a:ext cx="403884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ault is an example of pul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rust making a line or cr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ross a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San Andreas fault"/>
          <p:cNvPicPr/>
          <p:nvPr/>
        </p:nvPicPr>
        <p:blipFill>
          <a:blip r:embed="rId1"/>
          <a:stretch/>
        </p:blipFill>
        <p:spPr>
          <a:xfrm>
            <a:off x="2971800" y="1828800"/>
            <a:ext cx="3429000" cy="3309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380880"/>
            <a:ext cx="792504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n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like silly putty, it pulls the crust of the Earth which stretche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the middle thinn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2857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3962520"/>
            <a:ext cx="8229600" cy="19047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look at the wall of rock you can see how it is folded over many tim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ction is because of compression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r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when rock is squeez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l it folds or breaks. Looking at the picture you can tell that it was fol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comp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5105160" cy="3701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715000" y="3962520"/>
            <a:ext cx="32004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an exampl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aring because the rock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lling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ing ap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09480"/>
            <a:ext cx="7696080" cy="1524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hearing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imilar to stress. This is because she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changes rocks shape but, it also can cause the r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reak or slip a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981080" y="4800600"/>
            <a:ext cx="6934320" cy="1600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you think of faults, you think of giant cracks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th’s Crust.  If you do think of that you just described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rmal Fa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5638680" cy="2954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1066680"/>
            <a:ext cx="23619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h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352320" y="32004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352680" y="22096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2096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2133720" y="1371600"/>
            <a:ext cx="121896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95280" y="762120"/>
            <a:ext cx="6553440" cy="1752480"/>
          </a:xfrm>
          <a:prstGeom prst="cloudCallout">
            <a:avLst>
              <a:gd name="adj1" fmla="val -36773"/>
              <a:gd name="adj2" fmla="val 70018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faults are the same as normal faults but the blocks of rock move in opposite directions. These faults are calle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verse Faul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reverse fault"/>
          <p:cNvPicPr/>
          <p:nvPr/>
        </p:nvPicPr>
        <p:blipFill>
          <a:blip r:embed="rId1"/>
          <a:stretch/>
        </p:blipFill>
        <p:spPr>
          <a:xfrm>
            <a:off x="3657600" y="3200400"/>
            <a:ext cx="5257800" cy="2846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04920" y="3200400"/>
            <a:ext cx="2971800" cy="2657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572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124080" cy="3638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4191120"/>
            <a:ext cx="3353040" cy="1828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nging w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es above a fau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267080" y="3352680"/>
            <a:ext cx="4476960" cy="2876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86200" y="609480"/>
            <a:ext cx="5029200" cy="2438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d line marks equivalent layers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posite side of the fault. The rock bet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d lines is where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otw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loc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strike-slip fault"/>
          <p:cNvPicPr/>
          <p:nvPr/>
        </p:nvPicPr>
        <p:blipFill>
          <a:blip r:embed="rId1"/>
          <a:stretch/>
        </p:blipFill>
        <p:spPr>
          <a:xfrm>
            <a:off x="2971800" y="3429000"/>
            <a:ext cx="5781600" cy="2854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71600" y="838080"/>
            <a:ext cx="5410080" cy="2133720"/>
          </a:xfrm>
          <a:prstGeom prst="cloudCallout">
            <a:avLst>
              <a:gd name="adj1" fmla="val -45421"/>
              <a:gd name="adj2" fmla="val 70013"/>
            </a:avLst>
          </a:prstGeom>
          <a:solidFill>
            <a:srgbClr val="ff00ff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rike-Slip Faul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w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cks on either side of the fault slip past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in opposit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1970280" cy="2658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335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00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13:48:04Z</dcterms:created>
  <dc:creator>jordannakalkhof</dc:creator>
  <dc:description/>
  <dc:language>en-US</dc:language>
  <cp:lastModifiedBy>ebonyjohnson</cp:lastModifiedBy>
  <dcterms:modified xsi:type="dcterms:W3CDTF">2008-02-07T14:11:13Z</dcterms:modified>
  <cp:revision>11</cp:revision>
  <dc:subject/>
  <dc:title>Slide 1</dc:title>
</cp:coreProperties>
</file>